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BC9-A0B3-4800-A61A-966D479A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80E-02F4-49AD-BB1A-19CDF126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C3A-D651-41A8-B940-F7A6994F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9149-DC8D-4B42-8143-4A86AB23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520-53BF-428B-81F6-CCD742C3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545-6F49-4325-A4EB-9514C88B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FD67-C55C-497B-B1A9-E0FC19C4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5BF1-F4AA-44CE-A4A1-BDA3C0FB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DA5-2BA1-494A-A05D-FD9799D9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001-FD42-45B2-B389-19436BE4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302-82A6-4F99-98D2-5F43FA26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A87-67F4-4E26-A90B-BAEFE0B2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C3CB-9128-4D73-88F6-F7C153AFF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 D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ccharomy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om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uild with 43,426 papers, 44,690 abstracts and 3.2 million ke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port textpresso to a DBMS (mysql 5.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44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st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0.02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LAT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fi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data in 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980" t="14814" r="3921" b="5556"/>
          <a:stretch/>
        </p:blipFill>
        <p:spPr>
          <a:xfrm>
            <a:off x="457200" y="1752480"/>
            <a:ext cx="8458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7:36:52Z</dcterms:created>
  <dc:creator>Stan Dong</dc:creator>
  <dc:description/>
  <dc:language>en-US</dc:language>
  <cp:lastModifiedBy>Qing Dong</cp:lastModifiedBy>
  <dcterms:modified xsi:type="dcterms:W3CDTF">2006-06-28T01:54:43Z</dcterms:modified>
  <cp:revision>7</cp:revision>
  <dc:subject/>
  <dc:title>GMOD Meeting</dc:title>
</cp:coreProperties>
</file>